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C74-71F3-4A52-B5D2-AB58F9C0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231-521E-4F92-8C20-BD4EA957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515-C0BF-4D58-9979-C284DF59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401-645A-4F7F-87B4-076ECF9E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2AAF-C726-4E97-9F41-443B97D9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7AF6-E1AA-4948-8A16-1D13156D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D72F-5BB0-4006-9D48-2A71060A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E9DD-30EE-4A06-8EEC-A6AD2A9B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15E3-5140-4824-8C03-2A6F854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61DB-4EF6-4726-BCA3-142C9702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3E0B-59C1-4C4E-B9E7-1B1FB70A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C8C-9395-4788-9079-8CD1B4E6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48A0-78D8-4C29-BA99-AB7EDBE8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383-685C-402B-9A62-1848FE15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005E-5EB0-4247-B55A-47E11C70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2C6E-5347-4B52-BDCE-5BF6874C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D234-5A70-48CF-BB39-9B645201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D13-7AE7-4FEC-904C-A7A68A87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934-1353-4473-99AE-8E4E0804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EF5-9BBA-4184-BC92-C02A91A5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797-3D61-4FFE-8849-BA38E09B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EB2-892C-4AF6-A381-507A0E83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F43-5772-4C74-9A1B-792B360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D37-D950-4064-886E-4C11A0E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6892-83A1-4BA3-BDA5-D8736E781D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1D97-DE15-4BA9-99F6-F1F42BBF96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omic Sans MS"/>
              </a:rPr>
              <a:t>Today’s Objective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Comic Sans MS"/>
              </a:rPr>
              <a:t>To be able to evaluate variable express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Comic Sans MS"/>
              </a:rPr>
              <a:t>What’s the difference between an expression and an equation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514600"/>
            <a:ext cx="5105520" cy="327672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17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Expressions compared to Equ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Expression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8y,   16a/b,   4r + s,    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Equation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3x + 4 =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3r = 9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omic Sans MS"/>
              </a:rPr>
              <a:t>Vocabulary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Variable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= A letter or symbol that is used to represent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Evaluating an expression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= Replacing all the variables in an expression with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Value of an expression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= The result of the expression when you evaluate i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748640" y="1676520"/>
          <a:ext cx="139536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8640" y="1676520"/>
                    <a:ext cx="139536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Steps for evaluating express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3505320" cy="1556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rite the express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3276360" cy="1556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stitute the valu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4267080"/>
            <a:ext cx="3352680" cy="2287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mplify the express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1.) Evaluate 5x + 4y  </a:t>
            </a:r>
            <a:br>
              <a:rPr sz="5400"/>
            </a:b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when 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x = 3</a:t>
            </a: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y = 2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5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+ 4</a:t>
            </a:r>
            <a:r>
              <a:rPr b="0" lang="en-US" sz="66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5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) + 4(</a:t>
            </a:r>
            <a:r>
              <a:rPr b="0" lang="en-US" sz="66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)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600200" y="1143000"/>
            <a:ext cx="2819520" cy="167652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114800" y="1295280"/>
            <a:ext cx="3124080" cy="152424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886200"/>
            <a:ext cx="5791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15 +    8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23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748640" y="4199040"/>
            <a:ext cx="1395360" cy="265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2.) Evaluate x + (2x -1)  </a:t>
            </a:r>
            <a:br>
              <a:rPr sz="6000"/>
            </a:b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when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x = 3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+ (2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-1)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+ (2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) - 1)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040" y="1752480"/>
            <a:ext cx="3962520" cy="182880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76360" y="1828800"/>
            <a:ext cx="1600200" cy="175248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87680"/>
            <a:ext cx="3962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3 +     5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48640" y="4199040"/>
            <a:ext cx="1395360" cy="265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omic Sans MS"/>
              </a:rPr>
              <a:t>Vocabulary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the expression 3x + 2,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3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called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terms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the express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the expression 4x ,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re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actors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the express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What’s the difference between a term and a factor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3.) Find the distance traveled using the distance formula        d = rt,  when r = 75 &amp; t = 1.5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d = rt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d =(75)(1.5)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285640" y="2362320"/>
            <a:ext cx="1981080" cy="182880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33920" y="2438280"/>
            <a:ext cx="3124080" cy="175284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257800"/>
            <a:ext cx="396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d = 112.5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0"/>
            <a:ext cx="5562720" cy="3276720"/>
          </a:xfrm>
          <a:prstGeom prst="cloudCallout">
            <a:avLst>
              <a:gd name="adj1" fmla="val -60361"/>
              <a:gd name="adj2" fmla="val 8187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stitute   75 for r and 1.5 for 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748640" y="4199040"/>
            <a:ext cx="1395360" cy="265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00:20:56Z</dcterms:created>
  <dc:creator>flowing wells</dc:creator>
  <dc:description/>
  <dc:language>en-US</dc:language>
  <cp:lastModifiedBy>Test0</cp:lastModifiedBy>
  <dcterms:modified xsi:type="dcterms:W3CDTF">2002-07-01T15:20:33Z</dcterms:modified>
  <cp:revision>20</cp:revision>
  <dc:subject/>
  <dc:title>Bellwork 8/18</dc:title>
</cp:coreProperties>
</file>